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80A6-61C6-4487-9ED1-B03256382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6182-79C8-4AA0-BB56-AA05A1A0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4245-340A-4F59-B74F-4375AAC73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8B66-9D51-416E-A4CE-5E8C50860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3171-EBF2-4EF5-84F4-7E74A5B2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5B85-7A83-47BE-88A2-F75D9F39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6ED9-B052-473E-8FBF-4FDE1B32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AFD0-692B-43BA-9BE1-43050CC2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9DDC-DD5E-4104-9842-37320DC1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582F-D22F-4F0B-B584-8C7DE360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2F0C-0AE5-48D5-8FDD-B049B27F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208B-EA88-4260-986C-9757A7D4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742A-9860-4318-BCB7-F49F7AA1F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71640" y="765000"/>
            <a:ext cx="3168720" cy="5256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zverwal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39640" y="1844640"/>
            <a:ext cx="1228680" cy="2816280"/>
            <a:chOff x="539640" y="1844640"/>
            <a:chExt cx="1228680" cy="281628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539640" y="1844640"/>
              <a:ext cx="1228680" cy="20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828360" y="429264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3276720" y="1197000"/>
            <a:ext cx="216036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ue Notiz erstell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19640" y="1917720"/>
            <a:ext cx="1800000" cy="342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iz lösc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19640" y="2349360"/>
            <a:ext cx="1871640" cy="34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iz suc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48000" y="2781360"/>
            <a:ext cx="2087640" cy="71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stehende Notiz bearbei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3" idx="3"/>
            <a:endCxn id="45" idx="2"/>
          </p:cNvCxnSpPr>
          <p:nvPr/>
        </p:nvCxnSpPr>
        <p:spPr>
          <a:xfrm flipV="1">
            <a:off x="1768320" y="1521000"/>
            <a:ext cx="1508760" cy="1368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3" idx="3"/>
            <a:endCxn id="46" idx="2"/>
          </p:cNvCxnSpPr>
          <p:nvPr/>
        </p:nvCxnSpPr>
        <p:spPr>
          <a:xfrm flipV="1">
            <a:off x="1768320" y="2089080"/>
            <a:ext cx="1651680" cy="800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" name=""/>
          <p:cNvCxnSpPr>
            <a:stCxn id="43" idx="3"/>
            <a:endCxn id="47" idx="2"/>
          </p:cNvCxnSpPr>
          <p:nvPr/>
        </p:nvCxnSpPr>
        <p:spPr>
          <a:xfrm flipV="1">
            <a:off x="1768320" y="2521080"/>
            <a:ext cx="1651680" cy="368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" name=""/>
          <p:cNvCxnSpPr>
            <a:stCxn id="43" idx="3"/>
            <a:endCxn id="48" idx="2"/>
          </p:cNvCxnSpPr>
          <p:nvPr/>
        </p:nvCxnSpPr>
        <p:spPr>
          <a:xfrm>
            <a:off x="1768320" y="2889000"/>
            <a:ext cx="1580040" cy="25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3" name=""/>
          <p:cNvSpPr/>
          <p:nvPr/>
        </p:nvSpPr>
        <p:spPr>
          <a:xfrm>
            <a:off x="468360" y="33336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Times New Roman"/>
              </a:rPr>
              <a:t>Use Case Diagra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948360" y="1773360"/>
            <a:ext cx="1228680" cy="2815920"/>
            <a:chOff x="6948360" y="1773360"/>
            <a:chExt cx="1228680" cy="281592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6948360" y="1773360"/>
              <a:ext cx="1228680" cy="20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7236000" y="422100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348000" y="3573360"/>
            <a:ext cx="208764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uer User erstell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48000" y="4365720"/>
            <a:ext cx="2087640" cy="71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stehenden User lösc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8000" y="5157720"/>
            <a:ext cx="208764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stehenden User bearbei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5" idx="6"/>
            <a:endCxn id="55" idx="1"/>
          </p:cNvCxnSpPr>
          <p:nvPr/>
        </p:nvCxnSpPr>
        <p:spPr>
          <a:xfrm>
            <a:off x="5437080" y="1521000"/>
            <a:ext cx="1511640" cy="1297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" name=""/>
          <p:cNvCxnSpPr>
            <a:stCxn id="46" idx="6"/>
            <a:endCxn id="55" idx="1"/>
          </p:cNvCxnSpPr>
          <p:nvPr/>
        </p:nvCxnSpPr>
        <p:spPr>
          <a:xfrm>
            <a:off x="5219640" y="2089080"/>
            <a:ext cx="1729080" cy="729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" name=""/>
          <p:cNvCxnSpPr>
            <a:stCxn id="47" idx="6"/>
            <a:endCxn id="55" idx="1"/>
          </p:cNvCxnSpPr>
          <p:nvPr/>
        </p:nvCxnSpPr>
        <p:spPr>
          <a:xfrm>
            <a:off x="5291280" y="2521080"/>
            <a:ext cx="1657440" cy="297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" name=""/>
          <p:cNvCxnSpPr>
            <a:stCxn id="55" idx="1"/>
            <a:endCxn id="48" idx="6"/>
          </p:cNvCxnSpPr>
          <p:nvPr/>
        </p:nvCxnSpPr>
        <p:spPr>
          <a:xfrm flipH="1">
            <a:off x="5435640" y="2817720"/>
            <a:ext cx="1513080" cy="32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" name=""/>
          <p:cNvCxnSpPr>
            <a:stCxn id="57" idx="6"/>
            <a:endCxn id="55" idx="1"/>
          </p:cNvCxnSpPr>
          <p:nvPr/>
        </p:nvCxnSpPr>
        <p:spPr>
          <a:xfrm flipV="1">
            <a:off x="5435640" y="2817720"/>
            <a:ext cx="1513080" cy="111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" name=""/>
          <p:cNvCxnSpPr>
            <a:stCxn id="58" idx="6"/>
            <a:endCxn id="55" idx="1"/>
          </p:cNvCxnSpPr>
          <p:nvPr/>
        </p:nvCxnSpPr>
        <p:spPr>
          <a:xfrm flipV="1">
            <a:off x="5435640" y="2817720"/>
            <a:ext cx="1513080" cy="1908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" name=""/>
          <p:cNvCxnSpPr>
            <a:stCxn id="59" idx="6"/>
            <a:endCxn id="55" idx="1"/>
          </p:cNvCxnSpPr>
          <p:nvPr/>
        </p:nvCxnSpPr>
        <p:spPr>
          <a:xfrm flipV="1">
            <a:off x="5435640" y="2817720"/>
            <a:ext cx="1513080" cy="2700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" name=""/>
          <p:cNvCxnSpPr>
            <a:stCxn id="43" idx="3"/>
            <a:endCxn id="57" idx="2"/>
          </p:cNvCxnSpPr>
          <p:nvPr/>
        </p:nvCxnSpPr>
        <p:spPr>
          <a:xfrm>
            <a:off x="1768320" y="2889000"/>
            <a:ext cx="1580040" cy="1044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" name=""/>
          <p:cNvCxnSpPr>
            <a:stCxn id="43" idx="3"/>
            <a:endCxn id="59" idx="2"/>
          </p:cNvCxnSpPr>
          <p:nvPr/>
        </p:nvCxnSpPr>
        <p:spPr>
          <a:xfrm>
            <a:off x="1768320" y="2889000"/>
            <a:ext cx="1580040" cy="2628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9" name=""/>
          <p:cNvSpPr/>
          <p:nvPr/>
        </p:nvSpPr>
        <p:spPr>
          <a:xfrm flipV="1">
            <a:off x="7451640" y="1916280"/>
            <a:ext cx="21600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 A3 Fallstudi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0731-755A-43AB-A237-01C590E4658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. 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09:31:37Z</dcterms:created>
  <dc:creator>fabian.schumann</dc:creator>
  <dc:description/>
  <dc:language>en-US</dc:language>
  <cp:lastModifiedBy>fabian.schumann</cp:lastModifiedBy>
  <dcterms:modified xsi:type="dcterms:W3CDTF">2006-12-04T13:57:12Z</dcterms:modified>
  <cp:revision>20</cp:revision>
  <dc:subject/>
  <dc:title>Folie 1</dc:title>
</cp:coreProperties>
</file>