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261-EA7C-4F81-BFFD-408F6230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04A-AAA2-4AA3-984C-56A0717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75E-6A94-4327-A474-8D5E027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76E-D58E-4D81-84EE-D93669ED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B1B-2639-4434-BF7F-3F627AC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DDE-316A-4397-A603-E805531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34F-38BF-499E-ACF9-B483334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8A6-01AA-4473-B98D-67B2A94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95D-3F9A-4733-B2E1-352CE36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688-0741-46AE-8735-8634D0C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D33-5153-4D67-BEBF-45F54A5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440-1604-4B9B-A336-EECF155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873-EFC2-4CF4-B504-B1B3479977CA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Gui 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35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300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67280" y="36910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l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566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42920" y="3009960"/>
            <a:ext cx="1441440" cy="611280"/>
            <a:chOff x="1042920" y="3009960"/>
            <a:chExt cx="1441440" cy="611280"/>
          </a:xfrm>
        </p:grpSpPr>
        <p:sp>
          <p:nvSpPr>
            <p:cNvPr id="315" name=""/>
            <p:cNvSpPr/>
            <p:nvPr/>
          </p:nvSpPr>
          <p:spPr>
            <a:xfrm>
              <a:off x="1042920" y="3333600"/>
              <a:ext cx="14414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22360" y="3009960"/>
              <a:ext cx="80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708280" y="3035160"/>
            <a:ext cx="17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Änderungsd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176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6232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3357720"/>
            <a:ext cx="576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3357720"/>
            <a:ext cx="129672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D.MM.JJJ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1796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4156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66760" y="170028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6712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5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342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67280" y="36910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l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566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42920" y="3009960"/>
            <a:ext cx="1441440" cy="611280"/>
            <a:chOff x="1042920" y="3009960"/>
            <a:chExt cx="1441440" cy="611280"/>
          </a:xfrm>
        </p:grpSpPr>
        <p:sp>
          <p:nvSpPr>
            <p:cNvPr id="357" name=""/>
            <p:cNvSpPr/>
            <p:nvPr/>
          </p:nvSpPr>
          <p:spPr>
            <a:xfrm>
              <a:off x="1042920" y="3333600"/>
              <a:ext cx="14414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22360" y="3009960"/>
              <a:ext cx="80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708280" y="3035160"/>
            <a:ext cx="17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Änderungsd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176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6232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3357720"/>
            <a:ext cx="576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27640" y="3357720"/>
            <a:ext cx="129672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D.MM.JJJ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1796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70120" y="2103480"/>
            <a:ext cx="6984360" cy="3312720"/>
            <a:chOff x="870120" y="2103480"/>
            <a:chExt cx="6984360" cy="3312720"/>
          </a:xfrm>
        </p:grpSpPr>
        <p:sp>
          <p:nvSpPr>
            <p:cNvPr id="391" name=""/>
            <p:cNvSpPr/>
            <p:nvPr/>
          </p:nvSpPr>
          <p:spPr>
            <a:xfrm>
              <a:off x="870120" y="23364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0120" y="2572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0120" y="2811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0120" y="304776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120" y="32839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0120" y="2103480"/>
              <a:ext cx="69843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Titel                              Autor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  Änderungsd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0120" y="35208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0120" y="37573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120" y="39920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120" y="42300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0120" y="44683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0120" y="47048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0120" y="4939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0120" y="5178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851280" y="1627200"/>
            <a:ext cx="73080" cy="73080"/>
            <a:chOff x="3851280" y="1627200"/>
            <a:chExt cx="73080" cy="73080"/>
          </a:xfrm>
        </p:grpSpPr>
        <p:sp>
          <p:nvSpPr>
            <p:cNvPr id="409" name=""/>
            <p:cNvSpPr/>
            <p:nvPr/>
          </p:nvSpPr>
          <p:spPr>
            <a:xfrm>
              <a:off x="3851280" y="162720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851280" y="162720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830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415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9564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930560" y="1628640"/>
            <a:ext cx="73080" cy="73080"/>
            <a:chOff x="4930560" y="1628640"/>
            <a:chExt cx="73080" cy="73080"/>
          </a:xfrm>
        </p:grpSpPr>
        <p:sp>
          <p:nvSpPr>
            <p:cNvPr id="449" name=""/>
            <p:cNvSpPr/>
            <p:nvPr/>
          </p:nvSpPr>
          <p:spPr>
            <a:xfrm>
              <a:off x="4930920" y="1628640"/>
              <a:ext cx="72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930560" y="162864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464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6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830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3236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3236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503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1820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327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203640" y="3068640"/>
            <a:ext cx="2361960" cy="1200240"/>
            <a:chOff x="3203640" y="3068640"/>
            <a:chExt cx="2361960" cy="1200240"/>
          </a:xfrm>
        </p:grpSpPr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3203640" y="3068640"/>
              <a:ext cx="236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736800" y="3451320"/>
              <a:ext cx="172692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 Notiz wurde gespeich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2080" y="3090960"/>
              <a:ext cx="208872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izverwaltu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830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9564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93236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236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748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029200" y="1628640"/>
            <a:ext cx="73080" cy="73080"/>
            <a:chOff x="5029200" y="1628640"/>
            <a:chExt cx="73080" cy="73080"/>
          </a:xfrm>
        </p:grpSpPr>
        <p:sp>
          <p:nvSpPr>
            <p:cNvPr id="571" name=""/>
            <p:cNvSpPr/>
            <p:nvPr/>
          </p:nvSpPr>
          <p:spPr>
            <a:xfrm>
              <a:off x="5029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029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304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576520" y="2533680"/>
            <a:ext cx="3990960" cy="133344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5003640" y="1628640"/>
            <a:ext cx="73080" cy="73080"/>
            <a:chOff x="5003640" y="1628640"/>
            <a:chExt cx="73080" cy="73080"/>
          </a:xfrm>
        </p:grpSpPr>
        <p:sp>
          <p:nvSpPr>
            <p:cNvPr id="611" name=""/>
            <p:cNvSpPr/>
            <p:nvPr/>
          </p:nvSpPr>
          <p:spPr>
            <a:xfrm>
              <a:off x="500364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00364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851280" y="1700280"/>
            <a:ext cx="73080" cy="73080"/>
            <a:chOff x="3851280" y="1700280"/>
            <a:chExt cx="73080" cy="73080"/>
          </a:xfrm>
        </p:grpSpPr>
        <p:sp>
          <p:nvSpPr>
            <p:cNvPr id="638" name=""/>
            <p:cNvSpPr/>
            <p:nvPr/>
          </p:nvSpPr>
          <p:spPr>
            <a:xfrm>
              <a:off x="3851280" y="170028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51280" y="170028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8304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61960" cy="12002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924360" y="3141720"/>
            <a:ext cx="1727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Notiz wurde gelös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19640" y="2781360"/>
            <a:ext cx="20890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037120" y="1641600"/>
            <a:ext cx="73080" cy="73080"/>
            <a:chOff x="5037120" y="1641600"/>
            <a:chExt cx="73080" cy="73080"/>
          </a:xfrm>
        </p:grpSpPr>
        <p:sp>
          <p:nvSpPr>
            <p:cNvPr id="654" name=""/>
            <p:cNvSpPr/>
            <p:nvPr/>
          </p:nvSpPr>
          <p:spPr>
            <a:xfrm>
              <a:off x="5037120" y="164160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037120" y="164160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870120" y="2103480"/>
            <a:ext cx="6984360" cy="3312720"/>
            <a:chOff x="870120" y="2103480"/>
            <a:chExt cx="6984360" cy="3312720"/>
          </a:xfrm>
        </p:grpSpPr>
        <p:sp>
          <p:nvSpPr>
            <p:cNvPr id="680" name=""/>
            <p:cNvSpPr/>
            <p:nvPr/>
          </p:nvSpPr>
          <p:spPr>
            <a:xfrm>
              <a:off x="870120" y="23364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70120" y="2572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70120" y="2811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70120" y="304776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70120" y="32839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0120" y="2103480"/>
              <a:ext cx="69843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Titel                              Autor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  Änderungsd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70120" y="35208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0120" y="37573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70120" y="39920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70120" y="42300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0120" y="44683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70120" y="47048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0120" y="4939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0120" y="5178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698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162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292428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64320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292428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64320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349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779640" y="1628640"/>
            <a:ext cx="73080" cy="73080"/>
            <a:chOff x="3779640" y="1628640"/>
            <a:chExt cx="73080" cy="73080"/>
          </a:xfrm>
        </p:grpSpPr>
        <p:sp>
          <p:nvSpPr>
            <p:cNvPr id="741" name=""/>
            <p:cNvSpPr/>
            <p:nvPr/>
          </p:nvSpPr>
          <p:spPr>
            <a:xfrm>
              <a:off x="3780000" y="1628640"/>
              <a:ext cx="72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3779640" y="162864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990960" cy="13525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419640" y="3429000"/>
            <a:ext cx="30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len diese Elemente gelösch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786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319560" y="3119400"/>
            <a:ext cx="2361960" cy="12002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3852720" y="3502080"/>
            <a:ext cx="1727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Elemente wurden gelös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48000" y="3141720"/>
            <a:ext cx="20890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832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539640" y="476280"/>
            <a:ext cx="4032360" cy="1881360"/>
            <a:chOff x="539640" y="476280"/>
            <a:chExt cx="4032360" cy="1881360"/>
          </a:xfrm>
        </p:grpSpPr>
        <p:sp>
          <p:nvSpPr>
            <p:cNvPr id="835" name=""/>
            <p:cNvSpPr/>
            <p:nvPr/>
          </p:nvSpPr>
          <p:spPr>
            <a:xfrm>
              <a:off x="539640" y="476280"/>
              <a:ext cx="2016000" cy="1873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640" y="90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0920" y="54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2267640" y="621720"/>
              <a:ext cx="217440" cy="216000"/>
            </a:xfrm>
            <a:prstGeom prst="flowChartMerg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9640" y="1268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8320" y="9208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640" y="162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0920" y="126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9640" y="19893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0920" y="16290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0920" y="198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55640" y="476280"/>
              <a:ext cx="2016360" cy="792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55640" y="54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5640" y="90828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55640" y="9082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843280" y="2852640"/>
            <a:ext cx="5041800" cy="23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72360" y="2852640"/>
            <a:ext cx="151272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77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38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5024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2000" y="3860640"/>
            <a:ext cx="424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32000" y="3429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92720" y="4724280"/>
            <a:ext cx="2087640" cy="28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 un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55640" y="1197000"/>
            <a:ext cx="4032360" cy="1881360"/>
            <a:chOff x="755640" y="1197000"/>
            <a:chExt cx="4032360" cy="1881360"/>
          </a:xfrm>
        </p:grpSpPr>
        <p:sp>
          <p:nvSpPr>
            <p:cNvPr id="899" name=""/>
            <p:cNvSpPr/>
            <p:nvPr/>
          </p:nvSpPr>
          <p:spPr>
            <a:xfrm>
              <a:off x="755640" y="1197000"/>
              <a:ext cx="2016000" cy="1873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5640" y="162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6920" y="127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6200000">
              <a:off x="2483640" y="1342440"/>
              <a:ext cx="217440" cy="216000"/>
            </a:xfrm>
            <a:prstGeom prst="flowChartMerg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4320" y="16416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5640" y="234972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6920" y="198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5640" y="2710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6920" y="234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26920" y="271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71640" y="1197000"/>
              <a:ext cx="2016360" cy="792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71640" y="127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71640" y="1629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71640" y="16290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55640" y="2276640"/>
            <a:ext cx="12952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349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62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92428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364320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92428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64320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197000"/>
            <a:ext cx="2016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628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27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1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197000"/>
            <a:ext cx="2016360" cy="79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7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u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1628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162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70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1034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2060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utzer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8160" y="256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 Adre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38400" y="3068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s Passw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35258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ues Passw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33760" y="2108160"/>
            <a:ext cx="2262240" cy="2255760"/>
            <a:chOff x="3533760" y="2108160"/>
            <a:chExt cx="2262240" cy="2255760"/>
          </a:xfrm>
        </p:grpSpPr>
        <p:sp>
          <p:nvSpPr>
            <p:cNvPr id="104" name=""/>
            <p:cNvSpPr/>
            <p:nvPr/>
          </p:nvSpPr>
          <p:spPr>
            <a:xfrm>
              <a:off x="3533760" y="210816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1040" y="261144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8960" y="3103560"/>
              <a:ext cx="223236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357336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4000" y="407664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971640" y="407664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t wiederho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125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51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276640"/>
            <a:ext cx="187164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133720"/>
            <a:ext cx="324036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276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5080" y="2924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9080" y="3716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26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3080" y="3789360"/>
          <a:ext cx="297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3789360"/>
                    <a:ext cx="297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405080" y="32781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349360"/>
          <a:ext cx="190440" cy="2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349360"/>
                    <a:ext cx="1904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057480" y="2679840"/>
          <a:ext cx="2620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7480" y="2679840"/>
                    <a:ext cx="2620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46320" y="3032280"/>
          <a:ext cx="262080" cy="24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6320" y="3032280"/>
                    <a:ext cx="2620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059280" y="3357720"/>
            <a:ext cx="261720" cy="291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3059280" y="2349360"/>
            <a:ext cx="261720" cy="292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176560"/>
            <a:ext cx="289080" cy="33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5268960"/>
            <a:ext cx="146160" cy="14760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22560" y="2316240"/>
            <a:ext cx="146160" cy="14760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2560" y="2592360"/>
            <a:ext cx="146160" cy="73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195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51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5373720"/>
            <a:ext cx="165744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421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2363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229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820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203640" y="3068640"/>
            <a:ext cx="2361960" cy="1200240"/>
            <a:chOff x="3203640" y="3068640"/>
            <a:chExt cx="2361960" cy="120024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3640" y="3068640"/>
              <a:ext cx="236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36800" y="3451320"/>
              <a:ext cx="172692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 Notiz wurde gespeich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32080" y="3090960"/>
              <a:ext cx="208872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izverwaltu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06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0520" y="1628640"/>
            <a:ext cx="73080" cy="73080"/>
            <a:chOff x="3800520" y="1628640"/>
            <a:chExt cx="73080" cy="73080"/>
          </a:xfrm>
        </p:grpSpPr>
        <p:sp>
          <p:nvSpPr>
            <p:cNvPr id="285" name=""/>
            <p:cNvSpPr/>
            <p:nvPr/>
          </p:nvSpPr>
          <p:spPr>
            <a:xfrm>
              <a:off x="380052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80052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0:31Z</dcterms:created>
  <dc:creator>roy.holliger</dc:creator>
  <dc:description/>
  <dc:language>en-US</dc:language>
  <cp:lastModifiedBy>kened.matici</cp:lastModifiedBy>
  <dcterms:modified xsi:type="dcterms:W3CDTF">2006-12-06T08:43:12Z</dcterms:modified>
  <cp:revision>88</cp:revision>
  <dc:subject/>
  <dc:title>GUI Beispiel 1</dc:title>
</cp:coreProperties>
</file>